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C5E-D0CC-4C94-8E1D-11142BC1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C5C-2DC3-4E70-A5D5-DD21E692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4AB-1F3E-462B-9C58-F09EAF53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306-6DE1-4B61-B72A-0B0CE5BE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544A-7650-4C4A-A23A-2B4A5160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D8F6-8340-4F98-89E2-DE2FD60E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48FB-E9C3-4CB1-A8FB-E963C562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1199-F356-4D3A-821B-D2EC9381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A3EF-D979-40CF-AC00-B26F0201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0B90-4510-46BC-8DB0-7A4400A1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60E-1884-47C7-B688-A26643B9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51E-893F-492B-BE7A-72337726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BB69-62D4-4130-A7D8-5DE3245D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0AF3-1010-45EF-80CF-FAC8E400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6D12-15E3-4A86-979F-B26C276D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7643-07DF-4506-B6AB-B524CFB6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628B-6945-4D56-8CD0-DD51371E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20F-9C14-461B-9D05-5DDD34C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090-E13F-4B8C-AB21-DCBE82EE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5AC-4DAD-4F3A-947E-96E5EB29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C95-4BCA-42FC-9EF9-8F1B290E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53E-40B4-4E91-8E0A-039C6BE6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929-5DB1-4534-836D-53EF3DE9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DF0-D404-4F95-9229-EA529D63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13404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1340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09880" y="61340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D518-16BC-4974-BC50-9A8ED2917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"/>
          <p:cNvSpPr/>
          <p:nvPr/>
        </p:nvSpPr>
        <p:spPr>
          <a:xfrm>
            <a:off x="1081080" y="6553080"/>
            <a:ext cx="806292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110360" y="5891040"/>
            <a:ext cx="1762200" cy="586080"/>
            <a:chOff x="7110360" y="5891040"/>
            <a:chExt cx="1762200" cy="586080"/>
          </a:xfrm>
        </p:grpSpPr>
        <p:sp>
          <p:nvSpPr>
            <p:cNvPr id="9" name=""/>
            <p:cNvSpPr/>
            <p:nvPr/>
          </p:nvSpPr>
          <p:spPr>
            <a:xfrm>
              <a:off x="7110360" y="5891040"/>
              <a:ext cx="542520" cy="58608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60440" y="6170040"/>
              <a:ext cx="1212120" cy="29880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174800" y="5891040"/>
              <a:ext cx="477360" cy="49500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228440" y="5935680"/>
              <a:ext cx="292680" cy="5414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081080" y="0"/>
            <a:ext cx="80629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40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153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EE3D-D460-44B1-B007-2CE1AAFD5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3440" y="2895480"/>
            <a:ext cx="7010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44600" y="4572000"/>
            <a:ext cx="7010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450720"/>
            <a:ext cx="3381120" cy="1123920"/>
            <a:chOff x="1066680" y="450720"/>
            <a:chExt cx="3381120" cy="1123920"/>
          </a:xfrm>
        </p:grpSpPr>
        <p:sp>
          <p:nvSpPr>
            <p:cNvPr id="57" name=""/>
            <p:cNvSpPr/>
            <p:nvPr/>
          </p:nvSpPr>
          <p:spPr>
            <a:xfrm>
              <a:off x="1066680" y="450720"/>
              <a:ext cx="1041120" cy="112392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2200" y="985680"/>
              <a:ext cx="2325600" cy="57312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0520" y="450720"/>
              <a:ext cx="915840" cy="94932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93480" y="536400"/>
              <a:ext cx="561960" cy="10382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33720" y="6553080"/>
            <a:ext cx="701028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0"/>
            <a:ext cx="70102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lvl="2" marL="9144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3" marL="13716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4" marL="18288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Performance Review</a:t>
            </a:r>
            <a:br>
              <a:rPr sz="4000"/>
            </a:b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H1: FY2002</a:t>
            </a:r>
            <a:endParaRPr b="1" lang="en-US" sz="40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38320" y="4971960"/>
            <a:ext cx="64389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ctober 25, 2001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38052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</a:t>
            </a:r>
            <a:r>
              <a:rPr b="1" lang="en-US" sz="2800" spc="-1" strike="noStrike">
                <a:solidFill>
                  <a:srgbClr val="00004d"/>
                </a:solidFill>
                <a:latin typeface="Zurich BT"/>
              </a:rPr>
              <a:t>(Indian GAAP)</a:t>
            </a:r>
            <a:endParaRPr b="1" lang="en-US" sz="28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00080" y="1771560"/>
          <a:ext cx="8305920" cy="42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771560"/>
                    <a:ext cx="83059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996960" y="1371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570560"/>
            <a:ext cx="78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4d"/>
                </a:solidFill>
                <a:latin typeface="Zurich BT"/>
              </a:rPr>
              <a:t>21% increase in Indian GAAP consolidated prof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85800" y="1609560"/>
          <a:ext cx="8534520" cy="33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9560"/>
                    <a:ext cx="853452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38052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</a:t>
            </a:r>
            <a:r>
              <a:rPr b="1" lang="en-US" sz="2800" spc="-1" strike="noStrike">
                <a:solidFill>
                  <a:srgbClr val="00004d"/>
                </a:solidFill>
                <a:latin typeface="Zurich BT"/>
              </a:rPr>
              <a:t>(US GAAP)</a:t>
            </a:r>
            <a:endParaRPr b="1" lang="en-US" sz="28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47" name=""/>
          <p:cNvSpPr/>
          <p:nvPr/>
        </p:nvSpPr>
        <p:spPr>
          <a:xfrm>
            <a:off x="7854840" y="1203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05324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Net income, includes the cumulative effect of accounting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of Rs. 0.89 billion in H1-FY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19051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pprovals: Thrust on corporate finance &amp; retail continue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592360"/>
          <a:ext cx="373392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2360"/>
                    <a:ext cx="373392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876920" y="2666880"/>
          <a:ext cx="426708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666880"/>
                    <a:ext cx="4267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891880" y="48340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8720" y="2695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5720" y="2209680"/>
            <a:ext cx="150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3980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12480" y="25430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03560" y="487692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23480" y="261936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95840" y="2162160"/>
            <a:ext cx="150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00840" y="228600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32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314.12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984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243.44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447920"/>
            <a:ext cx="350028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455840"/>
            <a:ext cx="350028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 -FY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447920"/>
            <a:ext cx="350496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1447920"/>
            <a:ext cx="350496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 FY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21000" y="25146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6320" y="2743200"/>
          <a:ext cx="42116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743200"/>
                    <a:ext cx="42116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sbursements: Thrust on corporate finance &amp; retail continue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876920" y="2666880"/>
          <a:ext cx="43434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666880"/>
                    <a:ext cx="43434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8064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60200" y="213372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9320" y="213372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06280" y="213372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896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37840" y="2209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5000" y="222264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5460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9964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168.71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0020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162.04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8480" y="1442880"/>
            <a:ext cx="350064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8480" y="1442880"/>
            <a:ext cx="350064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FY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7000" y="1442880"/>
            <a:ext cx="350064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7000" y="1442880"/>
            <a:ext cx="3500640" cy="451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FY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4080" y="27432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92040" y="914400"/>
          <a:ext cx="52466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14400"/>
                    <a:ext cx="5246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208160" y="1825560"/>
            <a:ext cx="7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9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51080" y="181944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9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74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274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Maintaining high quality of busines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49640" y="1143000"/>
            <a:ext cx="337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Approvals to clients rated ‘A-’ &amp; above at 93%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Disbursements to clients rated ‘A-’ &amp; above at 88%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920" y="3657600"/>
          <a:ext cx="524664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657600"/>
                    <a:ext cx="524664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066680" y="4419720"/>
            <a:ext cx="6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441972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541008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914400"/>
            <a:ext cx="381240" cy="19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3581280"/>
            <a:ext cx="381240" cy="198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Disburs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57560" y="541008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1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versified and De-risked Asset Portfolio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12" name=""/>
          <p:cNvSpPr/>
          <p:nvPr/>
        </p:nvSpPr>
        <p:spPr>
          <a:xfrm>
            <a:off x="1057320" y="1447920"/>
            <a:ext cx="3494160" cy="379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March 31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57320" y="1441440"/>
            <a:ext cx="3494160" cy="3371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2101680"/>
          <a:ext cx="42703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01680"/>
                    <a:ext cx="42703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197160" y="2143080"/>
            <a:ext cx="140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5960" y="402120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12920" y="1901880"/>
            <a:ext cx="89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89080" y="1978200"/>
            <a:ext cx="145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160" y="4509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297.83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4240" y="1425600"/>
            <a:ext cx="3517920" cy="33940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951440" y="2057400"/>
          <a:ext cx="4268880" cy="26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1440" y="2057400"/>
                    <a:ext cx="42688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94240" y="1432080"/>
            <a:ext cx="3517920" cy="3808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Sept 30, 2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4560" y="2006640"/>
            <a:ext cx="164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26160" y="4010040"/>
            <a:ext cx="13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42120" y="1943280"/>
            <a:ext cx="102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62760" y="2459160"/>
            <a:ext cx="11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36800" y="3002040"/>
            <a:ext cx="6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R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1640" y="4509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659.24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55440" y="5791320"/>
            <a:ext cx="57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Reduced risk and volatility of earn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25909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op 10 Industry-wise Exposure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152280" y="1390680"/>
          <a:ext cx="1009656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390680"/>
                    <a:ext cx="100965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7391520" y="8985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t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sset Classification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1676520"/>
          <a:ext cx="828648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2864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945120" y="12160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of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295280"/>
            <a:ext cx="7772400" cy="609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Non-Performing Loan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3520" y="1847880"/>
          <a:ext cx="8305560" cy="28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7880"/>
                    <a:ext cx="830556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376400" y="1432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1144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  Includes  debentures of Rs 1.40 bn classified as advances subsequent to March 31, 2001, following clarifications from RBI on classification of deben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325764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apital Adequacy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90720" y="1200240"/>
          <a:ext cx="821052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00240"/>
                    <a:ext cx="821052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94864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4760" y="501336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March 3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18520" y="499752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ept 30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557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036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hareholding Pattern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609480" y="2209680"/>
          <a:ext cx="6237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2209680"/>
                    <a:ext cx="6237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906640" y="2206800"/>
          <a:ext cx="6237360" cy="35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6640" y="2206800"/>
                    <a:ext cx="623736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838080" y="1295280"/>
            <a:ext cx="281952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Jun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295280"/>
            <a:ext cx="281952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September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7760"/>
            <a:ext cx="748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hank You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performance (Indian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73080" y="1523880"/>
          <a:ext cx="9269640" cy="34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3080" y="1523880"/>
                    <a:ext cx="926964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999560" y="106668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000" y="4433040"/>
            <a:ext cx="734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4d"/>
                </a:solidFill>
                <a:latin typeface="Zurich Blk BT"/>
              </a:rPr>
              <a:t>(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1) After adding back accelerated provisions of Rs. 8.13 b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4d"/>
                </a:solidFill>
                <a:latin typeface="Zurich Blk BT"/>
              </a:rPr>
              <a:t>(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2) Provision for tax for H1-FY02 has been made as per the new accou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standard on deferred tax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240" y="3413160"/>
            <a:ext cx="85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Profit to equity holders (net of preference dividend payout) incr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by 16% in H1-FY0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616040"/>
          <a:ext cx="9615600" cy="38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16040"/>
                    <a:ext cx="961560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8075520" y="1279440"/>
            <a:ext cx="9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295280"/>
          <a:ext cx="868680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6868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924680" y="89856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5105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Includes Rs.0.39 bn on account of provision for restructured ass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76320" y="990720"/>
          <a:ext cx="9391680" cy="55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90720"/>
                    <a:ext cx="939168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924680" y="609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1484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Represents additional charge following clarifications issu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RBI on investment valuation guidelines. This amount re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to period prior to March 31,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066680"/>
          <a:ext cx="10058400" cy="52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10058400" cy="52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8083440" y="6858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447920"/>
          <a:ext cx="90676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90676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8908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56640" y="99072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83440" y="4952880"/>
            <a:ext cx="83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After netting off deferred tax liability of Rs. 3.50 bn, which is now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under current and other liabil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Ratios (Indian GAAP)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4160" y="1371600"/>
          <a:ext cx="88898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371600"/>
                    <a:ext cx="8889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914400" y="434340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Annual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2) After adding back accelerated provisions and write-off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Rs. 8.13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3) Net income from operations includes net fund-based incom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fees &amp; commissions and dividend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6:23:56Z</dcterms:created>
  <dc:creator>NAR</dc:creator>
  <dc:description/>
  <dc:language>en-US</dc:language>
  <cp:lastModifiedBy>icici</cp:lastModifiedBy>
  <cp:lastPrinted>2001-10-25T05:36:53Z</cp:lastPrinted>
  <dcterms:modified xsi:type="dcterms:W3CDTF">2002-03-11T07:14:41Z</dcterms:modified>
  <cp:revision>188</cp:revision>
  <dc:subject/>
  <dc:title>Agenda</dc:title>
</cp:coreProperties>
</file>